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8C2-D2B4-43F0-B717-229A47465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BD1-373E-46C6-A8E4-71FE8C2D92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34C-1E6A-4D8D-A7C2-9F16D6B3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8BD-C72B-4379-A822-CFF0453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169-7887-47C8-AFDB-6FEE1362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D0E-938F-41BB-A64B-93E94589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12E-D34A-4D3C-9BAE-C2E8356D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CEA-E09B-45FF-A3FD-B68392E0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B7A-BAE0-4B76-A80C-041596F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075-1A0A-4A90-8FF8-3EC8B4F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65E-C512-4251-B38F-C283C6A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399-CE3A-4A64-A077-ED9CDB6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02A-B98C-4CCA-94DD-29C118D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40A-07C5-448A-938C-F5D0DB4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EFD-2678-4B28-AE4E-302E1C4C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otri.com/video/view/?id=v8420680469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9520" y="480060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 Ермакова Надежда Алекс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МОБУООШ №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. Горькая Балка Новокубанский рай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1439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Состав и функции кров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4032360" cy="483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27200" y="-360"/>
            <a:ext cx="77025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Эритроци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34136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кровяные тель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елые эритроциты не содержат яд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двояковогнутых дис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ркулируют 120 д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аются в печени и селезен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белок —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емоглоб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ёгких гемоглобин связывает кислород, превращаясь в </a:t>
            </a:r>
            <a:r>
              <a:rPr b="1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оксигемоглобин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моглобин в форме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арбоглобина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носит из тканей в лёгкие и небольшое количество углекислого г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Лейкоциты-белые кровяные кле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67164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67280" y="1052640"/>
            <a:ext cx="486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ная функция лейкоцитов - защи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и участвуют в иммунных реакциях, выделяя при эт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Т-клетки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спознающие вирусы и всевозможные вредные вещ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В-клет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батывающие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антитела, макрофаги,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е уничтожают эти веще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орме лейкоцитов в крови намного меньше, чем других форменных эле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-243000"/>
            <a:ext cx="67820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ейкоци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5923080" cy="419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414972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фаг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186880" y="583884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акте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227640" y="5157720"/>
            <a:ext cx="1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300720" y="3500280"/>
            <a:ext cx="1584360" cy="23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403280" y="3068640"/>
            <a:ext cx="1440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Текст 2" descr=""/>
          <p:cNvPicPr/>
          <p:nvPr/>
        </p:nvPicPr>
        <p:blipFill>
          <a:blip r:embed="rId2"/>
          <a:stretch/>
        </p:blipFill>
        <p:spPr>
          <a:xfrm>
            <a:off x="6516720" y="3500280"/>
            <a:ext cx="2409840" cy="3097440"/>
          </a:xfrm>
          <a:prstGeom prst="rect">
            <a:avLst/>
          </a:prstGeom>
          <a:ln w="0">
            <a:noFill/>
          </a:ln>
        </p:spPr>
      </p:pic>
      <p:pic>
        <p:nvPicPr>
          <p:cNvPr id="109" name="Текст 2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522520" cy="3189240"/>
          </a:xfrm>
          <a:prstGeom prst="rect">
            <a:avLst/>
          </a:prstGeom>
          <a:ln w="0">
            <a:noFill/>
          </a:ln>
        </p:spPr>
      </p:pic>
      <p:pic>
        <p:nvPicPr>
          <p:cNvPr id="110" name="Текст 2" descr=""/>
          <p:cNvPicPr/>
          <p:nvPr/>
        </p:nvPicPr>
        <p:blipFill>
          <a:blip r:embed="rId4"/>
          <a:stretch/>
        </p:blipFill>
        <p:spPr>
          <a:xfrm>
            <a:off x="2340000" y="1773360"/>
            <a:ext cx="2340000" cy="2973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9280" y="549000"/>
            <a:ext cx="5562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alibri"/>
              </a:rPr>
              <a:t>Фагоцито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Текст 2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37024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лья Ильич Мечник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(1845 – 19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378240" cy="406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227664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крыл фагоцито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йкоциты – фагоци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значает «клетки – пожирате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273560" cy="212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771640" y="3645000"/>
            <a:ext cx="6062760" cy="1844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4192560"/>
            <a:ext cx="2592360" cy="2665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076720" y="1773360"/>
            <a:ext cx="335304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340000" y="620640"/>
            <a:ext cx="40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омбоцит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Тром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15920"/>
            <a:ext cx="35049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густок свернувшейся крови, закрывающей место повреждения стенки сос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482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674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Образование тром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360" y="907920"/>
            <a:ext cx="568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ктивируются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При этом они выпускают отростки и прикрепляются к поврежденным тканям, а также скрепляются друг с другом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Активированные тромбоциты образуют первичный тромб в месте повреждения сосуда. Кроме того, в ответ на повреждение сосуд активно сужается, и кровоток в нем уменьш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гда этого недостаточно, запускается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стема свертывания кр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и в плазме крови образуется нерастворимый белок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фибр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Нити фибрина вплетаются в первичный тромб. В сетях фибрина «запутываются» форменные элементы крови, и получается вторичный тромб, который значительно  прочнее первичного.</a:t>
            </a: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Users\User\Downloads\1..jpg"/>
          <p:cNvPicPr/>
          <p:nvPr/>
        </p:nvPicPr>
        <p:blipFill>
          <a:blip r:embed="rId2"/>
          <a:stretch/>
        </p:blipFill>
        <p:spPr>
          <a:xfrm>
            <a:off x="324000" y="907920"/>
            <a:ext cx="2952720" cy="158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User\Downloads\2.jpg"/>
          <p:cNvPicPr/>
          <p:nvPr/>
        </p:nvPicPr>
        <p:blipFill>
          <a:blip r:embed="rId3"/>
          <a:stretch/>
        </p:blipFill>
        <p:spPr>
          <a:xfrm>
            <a:off x="324000" y="2565360"/>
            <a:ext cx="295272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Users\User\Downloads\3..jpg"/>
          <p:cNvPicPr/>
          <p:nvPr/>
        </p:nvPicPr>
        <p:blipFill>
          <a:blip r:embed="rId4"/>
          <a:stretch/>
        </p:blipFill>
        <p:spPr>
          <a:xfrm>
            <a:off x="324000" y="429264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разование тром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2666880"/>
            <a:ext cx="2819160" cy="990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ение или поре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риноген - бел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38680" y="129528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6538680" y="8748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лород возд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388620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каль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486400" y="35812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19520" y="36576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343400"/>
            <a:ext cx="380988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е фибрина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растворимого бел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3341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486400"/>
            <a:ext cx="36576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е тромба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вь свернула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Значение кров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кровь31"/>
          <p:cNvPicPr/>
          <p:nvPr/>
        </p:nvPicPr>
        <p:blipFill>
          <a:blip r:embed="rId2"/>
          <a:stretch/>
        </p:blipFill>
        <p:spPr>
          <a:xfrm>
            <a:off x="611280" y="907920"/>
            <a:ext cx="3235320" cy="1438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3" name="Picture 4" descr="кровь32"/>
          <p:cNvPicPr/>
          <p:nvPr/>
        </p:nvPicPr>
        <p:blipFill>
          <a:blip r:embed="rId3"/>
          <a:stretch/>
        </p:blipFill>
        <p:spPr>
          <a:xfrm>
            <a:off x="2987640" y="4869000"/>
            <a:ext cx="3090960" cy="143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4" name="Picture 5" descr="кровь33"/>
          <p:cNvPicPr/>
          <p:nvPr/>
        </p:nvPicPr>
        <p:blipFill>
          <a:blip r:embed="rId4"/>
          <a:stretch/>
        </p:blipFill>
        <p:spPr>
          <a:xfrm>
            <a:off x="611280" y="2997360"/>
            <a:ext cx="3116160" cy="143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5" name="Picture 6" descr="кровь34"/>
          <p:cNvPicPr/>
          <p:nvPr/>
        </p:nvPicPr>
        <p:blipFill>
          <a:blip r:embed="rId5"/>
          <a:stretch/>
        </p:blipFill>
        <p:spPr>
          <a:xfrm>
            <a:off x="5148360" y="2997360"/>
            <a:ext cx="3098880" cy="143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6" name="Picture 7" descr="кровь35"/>
          <p:cNvPicPr/>
          <p:nvPr/>
        </p:nvPicPr>
        <p:blipFill>
          <a:blip r:embed="rId6"/>
          <a:stretch/>
        </p:blipFill>
        <p:spPr>
          <a:xfrm>
            <a:off x="5148360" y="981000"/>
            <a:ext cx="3192480" cy="14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7" name="Text Box 8"/>
          <p:cNvSpPr/>
          <p:nvPr/>
        </p:nvSpPr>
        <p:spPr>
          <a:xfrm>
            <a:off x="971640" y="2421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миле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859280" y="24210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регулятор деятель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0"/>
          <p:cNvSpPr/>
          <p:nvPr/>
        </p:nvSpPr>
        <p:spPr>
          <a:xfrm flipV="1">
            <a:off x="914400" y="4965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796000" y="450864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защит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635280" y="6400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дицион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900000" y="4508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хранитель устое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520" y="207720"/>
            <a:ext cx="857088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Внутренняя  сред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90600" y="3892680"/>
            <a:ext cx="391320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</a:rPr>
              <a:t>тканевая жидк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агается между клетками тк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191040" y="2205000"/>
            <a:ext cx="34718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Times New Roman"/>
              </a:rPr>
              <a:t>лимф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ходится в лимфатических сосу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5410080" y="4294080"/>
            <a:ext cx="33433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imes New Roman"/>
              </a:rPr>
              <a:t>кров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ходится в кровеносных сосудах и серд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Прямая со стрелкой 8"/>
          <p:cNvCxnSpPr/>
          <p:nvPr/>
        </p:nvCxnSpPr>
        <p:spPr>
          <a:xfrm flipH="1">
            <a:off x="2181960" y="1017360"/>
            <a:ext cx="1335960" cy="2602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11"/>
          <p:cNvCxnSpPr/>
          <p:nvPr/>
        </p:nvCxnSpPr>
        <p:spPr>
          <a:xfrm flipH="1">
            <a:off x="4788720" y="1017720"/>
            <a:ext cx="2520" cy="1187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2"/>
          <p:cNvCxnSpPr/>
          <p:nvPr/>
        </p:nvCxnSpPr>
        <p:spPr>
          <a:xfrm>
            <a:off x="6153120" y="1017720"/>
            <a:ext cx="1029600" cy="3116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Функции кр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836640"/>
            <a:ext cx="736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ранспортную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Дыха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Пита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Экскреторная (выделительна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Терморегулято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Регулято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Защит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3.Гомеостатическ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Тромбоциты участвуют 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ертываемости кр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носе кисл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ичтожение бакте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носе питательных веще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сли из крови удалить форменные элементы, то остан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м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4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ая из ниже перечисленных функций не характерна для кров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о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щит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анспорт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едини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560" y="1323720"/>
            <a:ext cx="7353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480" y="1476360"/>
            <a:ext cx="8572320" cy="46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3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гоцитоз откры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 Сеч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 Анох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в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Ме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0040" y="625320"/>
            <a:ext cx="7588080" cy="33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br>
              <a:rPr sz="4100"/>
            </a:br>
            <a:br>
              <a:rPr sz="4100"/>
            </a:b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§14, подготовиться к лабораторной работе (сравнение крови человека с кровью лягушки на с. 72 учебник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рнет-ресурс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792180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lovopedia.com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http://medkarta.com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http://novonordisk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narod.ru/disk/21618137001/%D1%84%D0%BE%D1%80%D0%BC%D0%B5%D0%BD%D0%BD%D1%8B%D0%B5%20%D1%8D%D0%BB%D0%B5%D0%BC%D0%B5%D0%BD%D1%82%D1%8B%20%D0%BA%D1%80%D0%BE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http://images.yandex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http://ru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http://www.biologes.ru/book/export/html/7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http://www.murzim.ru/biologiya/8988-fotosintez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754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3789000"/>
            <a:ext cx="80960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6-8 %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 массы тела или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4,5-6 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из них 50%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чени и селезёнк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Строение крови"/>
          <p:cNvPicPr/>
          <p:nvPr/>
        </p:nvPicPr>
        <p:blipFill>
          <a:blip r:embed="rId2"/>
          <a:stretch/>
        </p:blipFill>
        <p:spPr>
          <a:xfrm>
            <a:off x="2843280" y="907920"/>
            <a:ext cx="3313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9308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19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2771640" y="620640"/>
            <a:ext cx="3284640" cy="102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К Р О В 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826920" y="2997360"/>
            <a:ext cx="281952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П Л А З М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4495680" y="5562720"/>
            <a:ext cx="198144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лейкоц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908000" y="5589720"/>
            <a:ext cx="205740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ромбоц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6781680" y="5562720"/>
            <a:ext cx="213372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эритроци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31"/>
          <p:cNvSpPr/>
          <p:nvPr/>
        </p:nvSpPr>
        <p:spPr>
          <a:xfrm flipH="1">
            <a:off x="2437920" y="1752480"/>
            <a:ext cx="17528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4724280" y="1752480"/>
            <a:ext cx="15242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60"/>
          <p:cNvGrpSpPr/>
          <p:nvPr/>
        </p:nvGrpSpPr>
        <p:grpSpPr>
          <a:xfrm>
            <a:off x="4748040" y="4063680"/>
            <a:ext cx="2743200" cy="611280"/>
            <a:chOff x="4748040" y="4063680"/>
            <a:chExt cx="2743200" cy="611280"/>
          </a:xfrm>
        </p:grpSpPr>
        <p:sp>
          <p:nvSpPr>
            <p:cNvPr id="70" name="Rectangle 20"/>
            <p:cNvSpPr/>
            <p:nvPr/>
          </p:nvSpPr>
          <p:spPr>
            <a:xfrm flipV="1">
              <a:off x="4748040" y="4063320"/>
              <a:ext cx="2743200" cy="609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44"/>
            <p:cNvSpPr/>
            <p:nvPr/>
          </p:nvSpPr>
          <p:spPr>
            <a:xfrm>
              <a:off x="4872960" y="4154400"/>
              <a:ext cx="244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К Л Е Т К 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49"/>
          <p:cNvSpPr/>
          <p:nvPr/>
        </p:nvSpPr>
        <p:spPr>
          <a:xfrm>
            <a:off x="4495680" y="2971800"/>
            <a:ext cx="426744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Форменные эле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51"/>
          <p:cNvSpPr/>
          <p:nvPr/>
        </p:nvSpPr>
        <p:spPr>
          <a:xfrm flipH="1">
            <a:off x="3161880" y="4673520"/>
            <a:ext cx="2057400" cy="88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53"/>
          <p:cNvSpPr/>
          <p:nvPr/>
        </p:nvSpPr>
        <p:spPr>
          <a:xfrm>
            <a:off x="6046920" y="358128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54"/>
          <p:cNvSpPr/>
          <p:nvPr/>
        </p:nvSpPr>
        <p:spPr>
          <a:xfrm flipH="1">
            <a:off x="5562360" y="4673520"/>
            <a:ext cx="484200" cy="88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7010280" y="4673520"/>
            <a:ext cx="1067040" cy="88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930240" y="2190600"/>
            <a:ext cx="1949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60%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6046920" y="2190600"/>
            <a:ext cx="203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кровь 2"/>
          <p:cNvPicPr/>
          <p:nvPr/>
        </p:nvPicPr>
        <p:blipFill>
          <a:blip r:embed="rId2"/>
          <a:stretch/>
        </p:blipFill>
        <p:spPr>
          <a:xfrm>
            <a:off x="179280" y="4076640"/>
            <a:ext cx="15336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3114720" cy="501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ода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90%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0,9%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елки –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7%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люкоза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0,1%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Жиры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0,8%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р. со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тамин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ормо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0920" y="260280"/>
            <a:ext cx="8103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ffcc00"/>
                </a:solidFill>
                <a:latin typeface="Calibri"/>
              </a:rPr>
              <a:t>Плазма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4849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3588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Форменные элементы кр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кровь 1"/>
          <p:cNvPicPr/>
          <p:nvPr/>
        </p:nvPicPr>
        <p:blipFill>
          <a:blip r:embed="rId2"/>
          <a:stretch/>
        </p:blipFill>
        <p:spPr>
          <a:xfrm>
            <a:off x="2771640" y="1700280"/>
            <a:ext cx="5688000" cy="4289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15200" y="2708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46600" y="53737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0880" y="407664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2268360" y="2997360"/>
            <a:ext cx="288000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340000" y="4365720"/>
            <a:ext cx="180036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195640" y="5661000"/>
            <a:ext cx="17287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0"/>
            <a:ext cx="80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765000"/>
          <a:ext cx="8318520" cy="5651640"/>
        </p:xfrm>
        <a:graphic>
          <a:graphicData uri="http://schemas.openxmlformats.org/drawingml/2006/table">
            <a:tbl>
              <a:tblPr/>
              <a:tblGrid>
                <a:gridCol w="2786040"/>
                <a:gridCol w="1800000"/>
                <a:gridCol w="1970280"/>
                <a:gridCol w="1762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знаки срав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ритроц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йкоц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омбоц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собенности строения, 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Мест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Место гиб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Продолжительность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Количество в 1 мм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Заболевания при  недостат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28:30Z</dcterms:created>
  <dc:creator>Катенок</dc:creator>
  <dc:description/>
  <dc:language>en-US</dc:language>
  <cp:lastModifiedBy>Виктор</cp:lastModifiedBy>
  <dcterms:modified xsi:type="dcterms:W3CDTF">2013-04-24T15:59:54Z</dcterms:modified>
  <cp:revision>18</cp:revision>
  <dc:subject/>
  <dc:title>Презентация PowerPoint</dc:title>
</cp:coreProperties>
</file>